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A8D-A372-49C6-97DF-BF53D68F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E0A-1AFB-4701-A500-1094E6F5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D71-8508-43B7-9C14-B1DF0936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333-1360-4818-8399-5C73D8DA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8633-FE85-4968-A1F2-E61DD101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8840-E936-4535-B02B-B34EB297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AEF-4BC4-42D1-AAE9-C37BAC22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9EB-2BC4-4CC9-85BC-794ECE4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2D8-7FC8-45DE-8B88-9DFF882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E88C-1F8D-4434-927F-44FA314C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77C7-BE7C-4171-A2EA-B06ABB6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0CF6-A804-4357-9CCE-DD904F49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F1C-85EF-4930-9FB6-100FE0E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32A9-6B31-4E03-AC03-ACB65E6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D8A6-EF72-4360-97DB-17B1F92D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6087-2528-42A4-8040-01FBE884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784D-BF62-4369-9A96-EC5D5D86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E02-FE2D-4F0D-8CAE-4F98D190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199-804A-4AA5-8A8D-1C786CD1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8A7-9F0A-4E33-AE7F-3E146006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F40-955D-483B-9E1E-0857E14F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439-7E37-4672-961F-86D8B069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08D-0C36-44BA-B95D-E462BD4F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D95-7C8D-4A62-BCF8-DDC6D2D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2061-87EF-4FD2-A7C1-8D6FA538DB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73B-1FE4-45A1-A580-4065FC87C9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一章  经济全球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主要内容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产生与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特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经济全球化的发展趋势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一、经济全球化的产生与发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定义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资源配置角度的定义：资源配置的全球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从生产关系角度的定义：资本主义生产关系的全球普遍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经济全球化的发展历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以前的萌芽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中期至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初的生长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两次世界大战期间以及战后的曲折发展阶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末而今的迅速扩展与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经济全球化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跨国公司作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技术进步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国际机构驱动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矛盾演化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。综合因素说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世界政治环境的变化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科学技术突破性发展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跨国公司的全球战略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--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新自由主义的兴起（国际组织奉行“华盛顿共识”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ashington Consensus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最早由当时任世界银行官员的经济学家约翰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·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威廉姆森（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John Williamson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）于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199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提出。当时他提出这一“共识”基于拉美国家截至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80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年代末经济改革的既有成败经验，提出“共识”的意图是把它作为拉美国家经济改革的指导思想。“华盛顿共识”出台之后，得到了世界银行和国际货币基金组织的支持。主要内容：税收改革（降低边际税率和扩大税基）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利率自由化，竞争性的汇率，贸易自由化，外国直接投资的流入自由化，私有化，放松管制（以消除进入或者退出障碍），保护产权。世界银行和国际货币基金组织等国际组织把“华盛顿共识”作为发展援助或者危机救援的 “前置条件”使用，推进经济自由化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经济全球化的特征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经济和新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信息技术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为基础的经济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垂直型、水平型）日益深化的经济全球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主体的多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家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\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银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市场体系的全球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与国际间区域一体化和集团化并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国的核心竞争力发生变化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知识和人力资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达国家在经济全球化过程中起着主导作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全球化背景下更加凸显国家和民族利益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经济全球化的影响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达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积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拓展市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贸易增长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竞争推动技术创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消极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资源与环境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就业问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全球化对发展中国家的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遇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吸引外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引进外来直接投资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推动技术进步和产业调整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强企业竞争力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跨国公司得以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贸易发展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不利影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分工中的不利地位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外部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发展中国家的发展不平衡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主权受到冲击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安全受到挑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经济全球化发展趋势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金融业在经济全球化中举足轻重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国际贸易进一步推动市场的一体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跨国公司推动着全球化的深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信息技术将彻底改变人类的生产与生活方式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。经济风险全球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5:56:29Z</dcterms:created>
  <dc:creator>YPL</dc:creator>
  <dc:description/>
  <dc:language>en-US</dc:language>
  <cp:lastModifiedBy>Dell</cp:lastModifiedBy>
  <dcterms:modified xsi:type="dcterms:W3CDTF">2021-08-23T22:43:04Z</dcterms:modified>
  <cp:revision>15</cp:revision>
  <dc:subject/>
  <dc:title>第一章  经济全球化</dc:title>
</cp:coreProperties>
</file>